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A26-DF10-4D61-A770-8F88025E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40C-87F3-4A37-A25A-FB007FDD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7D9-FA08-4646-94AB-BBDB3CF2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362-1A33-43A8-97F1-F17B2070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1B1-2BBB-42D3-B479-888108D4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9A3-8D79-4C5E-A414-E8649EC6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15B-1F95-41C2-BCEE-1FABB637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F7A-4889-46C9-B9CF-42E78855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A49-1335-4E7C-B5EA-6200652A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E95-140F-47DC-A31E-2456C82E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C35C-838A-452B-A551-F1BC1856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F6A2-1DFD-4F19-A094-506F07C5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D0AC6-07D9-4C12-9AB0-D131D852A1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6D835-3018-4F60-BA25-2BF5ECFBD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. Roth drops a pen and it falls to the 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the autumn, the leaves fall from the trees to the 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neisha throws a basketball into the a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. Roth drops a pen and it falls to the 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speed of the pen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the autumn, the leaves fall from the trees to the 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speed of a leaf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neisha throws a basketball into the a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speed of the basketball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ik slides across the floo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occer ball rolls toward a go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yla applies the break to the wheel of her bi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ik slides across the floo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hi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occer ball rolls toward a go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ball’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yla applies the break to the wheel of her bik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her bike’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metal top spins in the air above a magne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two forces are acting on the ca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wo magnets move away from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ail moves toward a magne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giant magnet picks up a car in a junk yar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two forces are acting on the ca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wo magnets move away from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speed of the magnets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ail moves toward a magne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speed of the nail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erson opens his parachute as he falls to the 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two forces are acting on the parachu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 airplane flies through the a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force is acting on the front of the airplan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ootball flies through the a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than gravity, what force is acting on the football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erson opens his parachute as he falls to the 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person’s speed increase or decrease after the parachute is open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 airplane flies through the a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airplane’s speed increase or decrease because of dra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ootball flies through the a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drag cause the football’s speed to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 on this obje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 on this obje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 on this obje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 on this obje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 on this obje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 on this obje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object’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object’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object’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object’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object’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object’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1:29:00Z</dcterms:created>
  <dc:creator>Caroline Roth</dc:creator>
  <dc:description/>
  <dc:language>en-US</dc:language>
  <cp:lastModifiedBy>Caroline Roth</cp:lastModifiedBy>
  <dcterms:modified xsi:type="dcterms:W3CDTF">2011-02-21T00:13:19Z</dcterms:modified>
  <cp:revision>7</cp:revision>
  <dc:subject/>
  <dc:title>Slide 1</dc:title>
</cp:coreProperties>
</file>